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57D-73A5-40AC-8CBC-0B5A7205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EB5-1325-47AF-9920-B5EF7B55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67B-0B95-41E4-8576-E19B9417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EA5-0A8C-47F7-8695-634A08FD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F2D-F672-431E-86D3-C1BE32A0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C063-E1C1-427D-B491-F975C0D0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647-2B20-49F4-BF79-F4ABD869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453E-194E-42B5-94C0-BC72ADD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A6F2-6C65-417C-93C0-5326054A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23E3-CF1C-44F1-960D-ACC6890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ACFF-DB0C-4BE9-A9AE-1ECE4024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284-FB73-4A6E-9B05-727B49A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4E79-0450-4505-9D32-2D9906E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D77-A0D5-4AE4-B97D-A14328C5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66D-FB3E-4300-800D-944863D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B31D-CF57-4E8A-A2A8-F8EE7D83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92CC-F5FD-4B3B-8DDF-5BD566AB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D83-38E4-4532-9698-D4621DF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1C3-91C6-4D52-AE33-71FD5F81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96A-C76D-459A-ADBB-060B2C9C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476-FD9E-4E09-AF0C-57BACE8F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AE0-3AE6-41A5-8407-EE2EB6E5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1B2-81A6-44F5-9408-C07FFBA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1F8-F114-4C29-88BF-75976938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CB98-6302-4E74-9831-E7819112FA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096A-E33C-4B7D-9585-E16A523532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аркотики и их влияние на мозг чело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3200" y="4508280"/>
            <a:ext cx="6400800" cy="28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тракеева Татья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31 груп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знаете какое влияние на мозг имеют наркотические веществ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93116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ой вред наносит употребление наркотиков физическому здоровью челове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3924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981000"/>
            <a:ext cx="86756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ешь ли ты среднюю продолжительность жизни наркомана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треблении наркотиков внутривенно 7-10 лет непрерывной наркотизации. Но есть и такие, которые погибают из-за них через 6-8 месяцев после начала регулярного прием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4190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ред наркомании проявля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кое поху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ижение веса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осанки туло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ждевременное ста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же одна доза наркотического вещества может вызвать наркотическую зависимост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16360" y="4292640"/>
            <a:ext cx="393408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6:49Z</dcterms:created>
  <dc:creator>07102</dc:creator>
  <dc:description/>
  <dc:language>en-US</dc:language>
  <cp:lastModifiedBy>07102</cp:lastModifiedBy>
  <dcterms:modified xsi:type="dcterms:W3CDTF">2009-12-17T14:41:52Z</dcterms:modified>
  <cp:revision>3</cp:revision>
  <dc:subject/>
  <dc:title>Наркотики и их влияние на мозг человека</dc:title>
</cp:coreProperties>
</file>